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6AE-A816-40D0-AEE2-330BE099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92-AAC0-4753-A8A2-21C1564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1B0-2F79-44A0-B2B4-B8C17477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5C1-10A9-4407-9824-4D15B444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538-F5C9-4903-905B-B589003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C41-2B94-47B1-BCB2-2F7FE5D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B56-F8F9-4B86-BED9-15AB63D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981-7A4B-4812-9F22-62D33C3F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BF4-D68F-4AE2-ADBB-078A6EF1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B9B-5B40-4F22-8941-E443CBF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4EC-9220-4D71-87AB-8E5E405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3BC-BA24-4710-BFA0-062E1CC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52B9-0820-4766-9421-830EB595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24382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14T17:15:48Z</dcterms:modified>
  <cp:revision>4</cp:revision>
  <dc:subject/>
  <dc:title>Culture</dc:title>
</cp:coreProperties>
</file>